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1.png" ContentType="image/png"/>
  <Override PartName="/ppt/media/train.wav" ContentType="audio/x-wav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37960" y="763200"/>
            <a:ext cx="548460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3363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4398840" y="0"/>
            <a:ext cx="3364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31D76-791E-4CA0-A071-83C4A22C2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E8398-093C-4271-B64C-ECD5D176D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BEC67-B878-4BD4-8D51-1671D6971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2C55A-A677-4BD0-85CB-C4954EC07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E6192-4532-4F49-8A83-2BCDA4040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1138320" y="763560"/>
            <a:ext cx="54943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155F5-E392-4CBE-A03F-DD502BCCD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FC244-9C74-4111-B0D6-39F110D54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138320" y="763560"/>
            <a:ext cx="54943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E04FF-1B13-4870-B629-853145245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A1F9F-0F35-45D5-85D8-3C2FBF5D9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138320" y="763560"/>
            <a:ext cx="54943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E5B5F-F88B-46CA-9764-8DC4C48C5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C61CB-5CB1-4C14-ADEA-33392C574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4BBC8-7E3A-49D1-91C2-13FACE01E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9BE0F-8DCC-4DCE-8717-17E845CFB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1373040" y="763560"/>
            <a:ext cx="501660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55899-1673-41A6-9310-0B4BBB387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B6D19-998B-493F-9441-AEFFCDD58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76327-8552-40F8-8566-34C338EF6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856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10488-00A8-42AA-A95D-DFB5C89E9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F6CD1-EC23-4495-BFB8-C179DAE07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94763-3137-4468-AFB9-119C62418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CC73F-990E-4940-BDB5-55BDFBCD6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2C643-1EDA-4A90-BE04-6227DF217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F6008-CBD7-413A-A731-481CD63D4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4FC0D-4071-43FA-9651-DC6EAC696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CB105-59CC-4015-93F4-972009564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67722-0537-4786-B759-B715918E4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ED568-BBBA-4B6F-A8A6-B052188DB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C818B-3D17-426F-A6F1-1F3AD609B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04497-82DB-4D81-B1DC-6ED7C75F1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1138320" y="763560"/>
            <a:ext cx="54943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503CF-296E-4F33-84B5-8C1BA50EE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29117-8A95-4614-AD4E-D7C22BDCD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836F3-5097-4CB5-B74B-22F6333D6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80BC7-1403-4DE3-932A-A2FB1C192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1138320" y="763560"/>
            <a:ext cx="54943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055D-E767-43B4-974D-06D9EA12F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128840"/>
            <a:ext cx="90597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A48A-BF98-4153-9E61-50E347675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12884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12884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EBA6-2779-42F9-AD78-6ECEFD433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12884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12884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12884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4E0B-44E3-4E46-9D51-663D0EFCCF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533A-750B-4F0E-AEEB-C6937965EE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066E-66A2-45C8-8A55-7BE6EAB4B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A6FA-D958-47A0-B469-C1E66BDD1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F027-B153-4B7B-B0C6-96133ED4D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3624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915B-76FC-471D-A89D-89494EE4B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12884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0397-42E6-42FD-A843-35035F3AA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12884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84A3-42F4-4173-AA7E-02F100818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128840"/>
            <a:ext cx="90597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85B5-FAC7-46C5-BA83-113BE7243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670800"/>
            <a:ext cx="23382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670800"/>
            <a:ext cx="3186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670440"/>
            <a:ext cx="233712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26D94-45C0-4060-9AD4-D0C26999C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tch.thirteen.org/video/1469558140/" TargetMode="External"/><Relationship Id="rId2" Type="http://schemas.openxmlformats.org/officeDocument/2006/relationships/hyperlink" Target="http://www.youtube.com/watch?v=WDexKkzKYws" TargetMode="External"/><Relationship Id="rId3" Type="http://schemas.openxmlformats.org/officeDocument/2006/relationships/audio" Target="../media/trai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" Target="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nit%20Lesson%204-%20Science.doc" TargetMode="External"/><Relationship Id="rId2" Type="http://schemas.openxmlformats.org/officeDocument/2006/relationships/hyperlink" Target="http://www.youtube.com/watch?v=pkjTBgKLFls&amp;NR=1" TargetMode="External"/><Relationship Id="rId3" Type="http://schemas.openxmlformats.org/officeDocument/2006/relationships/audio" Target="../media/trai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nit%20Lesson%205-%20Art.doc" TargetMode="External"/><Relationship Id="rId2" Type="http://schemas.openxmlformats.org/officeDocument/2006/relationships/hyperlink" Target="file:///Unit%20Lesson%205-%20Art.doc" TargetMode="External"/><Relationship Id="rId3" Type="http://schemas.openxmlformats.org/officeDocument/2006/relationships/hyperlink" Target="http://vimeo.com/9833348" TargetMode="External"/><Relationship Id="rId4" Type="http://schemas.openxmlformats.org/officeDocument/2006/relationships/audio" Target="../media/train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andiceed7841.blogspot.com/" TargetMode="External"/><Relationship Id="rId2" Type="http://schemas.openxmlformats.org/officeDocument/2006/relationships/hyperlink" Target="http://candiceed7841.wikispace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nit%20Lesson%201-%20Literacy.doc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audio" Target="../media/train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nit%20Lesson%202-%20Social%20Studies.doc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atch.thirteen.org/video/1469558140/" TargetMode="External"/><Relationship Id="rId4" Type="http://schemas.openxmlformats.org/officeDocument/2006/relationships/audio" Target="../media/train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nit%20Lesson%203-%20Mathematics.doc" TargetMode="External"/><Relationship Id="rId2" Type="http://schemas.openxmlformats.org/officeDocument/2006/relationships/audio" Target="../media/tra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685800" y="4572000"/>
            <a:ext cx="9070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Thematic Un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esented by Candice Fl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WordArt 2"/>
          <p:cNvSpPr txBox="1"/>
          <p:nvPr/>
        </p:nvSpPr>
        <p:spPr>
          <a:xfrm>
            <a:off x="2852640" y="1069920"/>
            <a:ext cx="4691160" cy="34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0000"/>
                  </a:outerShdw>
                </a:effectLst>
                <a:latin typeface="Arial Black"/>
              </a:rPr>
              <a:t>TRAINS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971800" y="5967360"/>
            <a:ext cx="4430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Motivation: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ll About Trains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  <p:sndAc>
      <p:stSnd>
        <p:snd r:embed="rId3" name="trai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503280" y="336600"/>
            <a:ext cx="906948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544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b2394"/>
                </a:solidFill>
                <a:latin typeface="Times New Roman"/>
                <a:ea typeface="Arial Unicode MS"/>
              </a:rPr>
              <a:t>Mathematics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503280" y="1371600"/>
            <a:ext cx="90694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t">
            <a:noAutofit/>
          </a:bodyPr>
          <a:p>
            <a:pPr marL="676440" indent="-6764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1: Group discussion of different shapes in trains, using pictures from our books about 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76440" indent="-6764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2: Create collages of trains using different cut-out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76440" indent="-676440" algn="ctr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6b0094"/>
                </a:solidFill>
                <a:latin typeface="Times New Roman"/>
                <a:ea typeface="Arial Unicode MS"/>
              </a:rPr>
              <a:t>Ms. Flores' Train Coll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696960" y="4160880"/>
            <a:ext cx="43434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5192640" y="4160880"/>
            <a:ext cx="43434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503280" y="380880"/>
            <a:ext cx="9069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544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b0094"/>
                </a:solidFill>
                <a:latin typeface="Times New Roman"/>
                <a:ea typeface="Arial Unicode MS"/>
              </a:rPr>
              <a:t>The Shapes We Used for our Tra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457200" y="1371600"/>
            <a:ext cx="9115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5520" bIns="0" anchor="t">
            <a:noAutofit/>
          </a:bodyPr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2040" y="1265400"/>
          <a:ext cx="9252000" cy="6140160"/>
        </p:xfrm>
        <a:graphic>
          <a:graphicData uri="http://schemas.openxmlformats.org/drawingml/2006/table">
            <a:tbl>
              <a:tblPr/>
              <a:tblGrid>
                <a:gridCol w="2081160"/>
                <a:gridCol w="2338560"/>
                <a:gridCol w="2246400"/>
                <a:gridCol w="2585880"/>
              </a:tblGrid>
              <a:tr h="2104560">
                <a:tc>
                  <a:txBody>
                    <a:bodyPr lIns="90000" rIns="90000" tIns="669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6b2394"/>
                          </a:solidFill>
                          <a:latin typeface="Arial"/>
                        </a:rPr>
                        <a:t>Box Ca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669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6b2394"/>
                          </a:solidFill>
                          <a:latin typeface="Arial"/>
                        </a:rPr>
                        <a:t>Tank Ca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669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6b2394"/>
                          </a:solidFill>
                          <a:latin typeface="Arial"/>
                        </a:rPr>
                        <a:t>Passen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6b2394"/>
                          </a:solidFill>
                          <a:latin typeface="Arial"/>
                        </a:rPr>
                        <a:t>Ca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76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6b2394"/>
                          </a:solidFill>
                          <a:latin typeface="Arial"/>
                        </a:rPr>
                        <a:t>Locomoti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035600">
                <a:tc>
                  <a:txBody>
                    <a:bodyPr lIns="90000" rIns="90000" tIns="5760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tang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 Circ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760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tang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 Circ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 Rectang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760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tang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 Circ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760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ag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ombu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tang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pic>
        <p:nvPicPr>
          <p:cNvPr id="103" name="Picture 34" descr=""/>
          <p:cNvPicPr/>
          <p:nvPr/>
        </p:nvPicPr>
        <p:blipFill>
          <a:blip r:embed="rId1"/>
          <a:stretch/>
        </p:blipFill>
        <p:spPr>
          <a:xfrm>
            <a:off x="7478640" y="2103480"/>
            <a:ext cx="1893960" cy="99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5" descr=""/>
          <p:cNvPicPr/>
          <p:nvPr/>
        </p:nvPicPr>
        <p:blipFill>
          <a:blip r:embed="rId2"/>
          <a:stretch/>
        </p:blipFill>
        <p:spPr>
          <a:xfrm>
            <a:off x="5040360" y="2255760"/>
            <a:ext cx="1828800" cy="878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6" descr=""/>
          <p:cNvPicPr/>
          <p:nvPr/>
        </p:nvPicPr>
        <p:blipFill>
          <a:blip r:embed="rId3"/>
          <a:stretch/>
        </p:blipFill>
        <p:spPr>
          <a:xfrm>
            <a:off x="2754360" y="210348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7" descr=""/>
          <p:cNvPicPr/>
          <p:nvPr/>
        </p:nvPicPr>
        <p:blipFill>
          <a:blip r:embed="rId4"/>
          <a:stretch/>
        </p:blipFill>
        <p:spPr>
          <a:xfrm>
            <a:off x="620640" y="2103480"/>
            <a:ext cx="182880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8"/>
          <p:cNvSpPr/>
          <p:nvPr/>
        </p:nvSpPr>
        <p:spPr>
          <a:xfrm>
            <a:off x="1077840" y="4313160"/>
            <a:ext cx="609840" cy="2286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9"/>
          <p:cNvSpPr/>
          <p:nvPr/>
        </p:nvSpPr>
        <p:spPr>
          <a:xfrm>
            <a:off x="3287880" y="3932280"/>
            <a:ext cx="609480" cy="2286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40"/>
          <p:cNvSpPr/>
          <p:nvPr/>
        </p:nvSpPr>
        <p:spPr>
          <a:xfrm>
            <a:off x="5268960" y="4313160"/>
            <a:ext cx="609480" cy="2286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1"/>
          <p:cNvSpPr/>
          <p:nvPr/>
        </p:nvSpPr>
        <p:spPr>
          <a:xfrm>
            <a:off x="8850240" y="5151600"/>
            <a:ext cx="609840" cy="2286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42"/>
          <p:cNvSpPr/>
          <p:nvPr/>
        </p:nvSpPr>
        <p:spPr>
          <a:xfrm>
            <a:off x="1001880" y="4923000"/>
            <a:ext cx="599760" cy="676080"/>
          </a:xfrm>
          <a:custGeom>
            <a:avLst/>
            <a:gdLst>
              <a:gd name="textAreaLeft" fmla="*/ 87840 w 599760"/>
              <a:gd name="textAreaRight" fmla="*/ 511920 w 599760"/>
              <a:gd name="textAreaTop" fmla="*/ 99000 h 676080"/>
              <a:gd name="textAreaBottom" fmla="*/ 577080 h 676080"/>
            </a:gdLst>
            <a:ahLst/>
            <a:rect l="textAreaLeft" t="textAreaTop" r="textAreaRight" b="textAreaBottom"/>
            <a:pathLst>
              <a:path w="21600" h="21600">
                <a:moveTo>
                  <a:pt x="239" y="13062"/>
                </a:moveTo>
                <a:cubicBezTo>
                  <a:pt x="1306" y="18042"/>
                  <a:pt x="5707" y="21600"/>
                  <a:pt x="10800" y="21600"/>
                </a:cubicBezTo>
                <a:cubicBezTo>
                  <a:pt x="15787" y="21599"/>
                  <a:pt x="20126" y="18184"/>
                  <a:pt x="21297" y="13336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43"/>
          <p:cNvSpPr/>
          <p:nvPr/>
        </p:nvSpPr>
        <p:spPr>
          <a:xfrm rot="16200000">
            <a:off x="3054240" y="4622400"/>
            <a:ext cx="533160" cy="676080"/>
          </a:xfrm>
          <a:custGeom>
            <a:avLst/>
            <a:gdLst>
              <a:gd name="textAreaLeft" fmla="*/ 78120 w 533160"/>
              <a:gd name="textAreaRight" fmla="*/ 455040 w 533160"/>
              <a:gd name="textAreaTop" fmla="*/ 99000 h 676080"/>
              <a:gd name="textAreaBottom" fmla="*/ 577080 h 676080"/>
            </a:gdLst>
            <a:ahLst/>
            <a:rect l="textAreaLeft" t="textAreaTop" r="textAreaRight" b="textAreaBottom"/>
            <a:pathLst>
              <a:path w="21600" h="21600">
                <a:moveTo>
                  <a:pt x="239" y="13062"/>
                </a:moveTo>
                <a:cubicBezTo>
                  <a:pt x="1306" y="18042"/>
                  <a:pt x="5707" y="21600"/>
                  <a:pt x="10800" y="21600"/>
                </a:cubicBezTo>
                <a:cubicBezTo>
                  <a:pt x="15787" y="21599"/>
                  <a:pt x="20126" y="18184"/>
                  <a:pt x="21297" y="13336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44"/>
          <p:cNvSpPr/>
          <p:nvPr/>
        </p:nvSpPr>
        <p:spPr>
          <a:xfrm rot="16200000">
            <a:off x="6373800" y="5113080"/>
            <a:ext cx="599760" cy="676440"/>
          </a:xfrm>
          <a:custGeom>
            <a:avLst/>
            <a:gdLst>
              <a:gd name="textAreaLeft" fmla="*/ 87840 w 599760"/>
              <a:gd name="textAreaRight" fmla="*/ 511920 w 599760"/>
              <a:gd name="textAreaTop" fmla="*/ 99000 h 676440"/>
              <a:gd name="textAreaBottom" fmla="*/ 577440 h 676440"/>
            </a:gdLst>
            <a:ahLst/>
            <a:rect l="textAreaLeft" t="textAreaTop" r="textAreaRight" b="textAreaBottom"/>
            <a:pathLst>
              <a:path w="21600" h="21600">
                <a:moveTo>
                  <a:pt x="239" y="13062"/>
                </a:moveTo>
                <a:cubicBezTo>
                  <a:pt x="1306" y="18042"/>
                  <a:pt x="5707" y="21600"/>
                  <a:pt x="10800" y="21600"/>
                </a:cubicBezTo>
                <a:cubicBezTo>
                  <a:pt x="15787" y="21599"/>
                  <a:pt x="20126" y="18184"/>
                  <a:pt x="21297" y="13336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5" descr=""/>
          <p:cNvPicPr/>
          <p:nvPr/>
        </p:nvPicPr>
        <p:blipFill>
          <a:blip r:embed="rId5"/>
          <a:stretch/>
        </p:blipFill>
        <p:spPr>
          <a:xfrm>
            <a:off x="1839960" y="583740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6" descr=""/>
          <p:cNvPicPr/>
          <p:nvPr/>
        </p:nvPicPr>
        <p:blipFill>
          <a:blip r:embed="rId6"/>
          <a:stretch/>
        </p:blipFill>
        <p:spPr>
          <a:xfrm>
            <a:off x="3973680" y="6370560"/>
            <a:ext cx="423720" cy="424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7" descr=""/>
          <p:cNvPicPr/>
          <p:nvPr/>
        </p:nvPicPr>
        <p:blipFill>
          <a:blip r:embed="rId7"/>
          <a:stretch/>
        </p:blipFill>
        <p:spPr>
          <a:xfrm>
            <a:off x="8469360" y="614196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117" name="Oval 48"/>
          <p:cNvSpPr/>
          <p:nvPr/>
        </p:nvSpPr>
        <p:spPr>
          <a:xfrm>
            <a:off x="8317080" y="553248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49"/>
          <p:cNvSpPr/>
          <p:nvPr/>
        </p:nvSpPr>
        <p:spPr>
          <a:xfrm>
            <a:off x="6031080" y="4770360"/>
            <a:ext cx="380880" cy="381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50"/>
          <p:cNvSpPr/>
          <p:nvPr/>
        </p:nvSpPr>
        <p:spPr>
          <a:xfrm>
            <a:off x="1382760" y="667548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1"/>
          <p:cNvSpPr/>
          <p:nvPr/>
        </p:nvSpPr>
        <p:spPr>
          <a:xfrm>
            <a:off x="8697960" y="4160880"/>
            <a:ext cx="380880" cy="380880"/>
          </a:xfrm>
          <a:prstGeom prst="octagon">
            <a:avLst>
              <a:gd name="adj" fmla="val 23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52"/>
          <p:cNvSpPr/>
          <p:nvPr/>
        </p:nvSpPr>
        <p:spPr>
          <a:xfrm>
            <a:off x="3211560" y="5837400"/>
            <a:ext cx="609480" cy="30456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53"/>
          <p:cNvSpPr/>
          <p:nvPr/>
        </p:nvSpPr>
        <p:spPr>
          <a:xfrm rot="10800000">
            <a:off x="9002520" y="4617720"/>
            <a:ext cx="609480" cy="228600"/>
          </a:xfrm>
          <a:prstGeom prst="flowChartManualOperation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54">
            <a:hlinkClick r:id="rId8" action="ppaction://hlinksldjump"/>
          </p:cNvPr>
          <p:cNvSpPr/>
          <p:nvPr/>
        </p:nvSpPr>
        <p:spPr>
          <a:xfrm>
            <a:off x="9155160" y="65556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7493"/>
                </a:moveTo>
                <a:lnTo>
                  <a:pt x="9451" y="7493"/>
                </a:lnTo>
                <a:lnTo>
                  <a:pt x="9451" y="12828"/>
                </a:lnTo>
                <a:cubicBezTo>
                  <a:pt x="9451" y="13751"/>
                  <a:pt x="10252" y="14482"/>
                  <a:pt x="11287" y="14482"/>
                </a:cubicBezTo>
                <a:lnTo>
                  <a:pt x="12950" y="14482"/>
                </a:lnTo>
                <a:cubicBezTo>
                  <a:pt x="13986" y="14482"/>
                  <a:pt x="14786" y="13751"/>
                  <a:pt x="14786" y="12828"/>
                </a:cubicBezTo>
                <a:lnTo>
                  <a:pt x="14786" y="7493"/>
                </a:lnTo>
                <a:lnTo>
                  <a:pt x="12950" y="7493"/>
                </a:lnTo>
                <a:lnTo>
                  <a:pt x="16457" y="3985"/>
                </a:lnTo>
                <a:lnTo>
                  <a:pt x="20130" y="7493"/>
                </a:lnTo>
                <a:lnTo>
                  <a:pt x="18294" y="7493"/>
                </a:lnTo>
                <a:lnTo>
                  <a:pt x="18294" y="12828"/>
                </a:lnTo>
                <a:cubicBezTo>
                  <a:pt x="18294" y="15596"/>
                  <a:pt x="15718" y="18155"/>
                  <a:pt x="12950" y="18155"/>
                </a:cubicBezTo>
                <a:lnTo>
                  <a:pt x="11287" y="18155"/>
                </a:lnTo>
                <a:cubicBezTo>
                  <a:pt x="8520" y="18155"/>
                  <a:pt x="5943" y="15596"/>
                  <a:pt x="5943" y="12828"/>
                </a:cubicBez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2211480"/>
            <a:ext cx="9069480" cy="25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544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/>
              </a:rPr>
              <a:t>Lesson 4- </a:t>
            </a:r>
            <a:r>
              <a:rPr b="0" lang="en-US" sz="4400" spc="-1" strike="noStrike">
                <a:solidFill>
                  <a:srgbClr val="ff950e"/>
                </a:solidFill>
                <a:latin typeface="Times New Roman"/>
                <a:ea typeface="Arial Unicode MS"/>
              </a:rPr>
              <a:t>Science: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Times New Roman"/>
                <a:ea typeface="Arial Unicode MS"/>
              </a:rPr>
              <a:t>Aim: </a:t>
            </a: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How do trains move?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Read-Aloud and Interactive Eng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135240" y="5075280"/>
            <a:ext cx="3657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otivation: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Moving Train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3" name="trai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503280" y="336600"/>
            <a:ext cx="90615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imes New Roman"/>
                <a:ea typeface="Arial Unicode MS"/>
              </a:rPr>
              <a:t>Science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544680" y="1265400"/>
            <a:ext cx="90612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t">
            <a:noAutofit/>
          </a:bodyPr>
          <a:p>
            <a:pPr marL="676440" indent="-6764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1: Go back to our book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rains on the Tr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76440" indent="-6764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2: Use our bodies to make kid-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76440" indent="-6764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3: Talk about how we moved our kid-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745080" y="3932280"/>
            <a:ext cx="3360600" cy="3198600"/>
          </a:xfrm>
          <a:prstGeom prst="rect">
            <a:avLst/>
          </a:prstGeom>
          <a:ln w="0">
            <a:noFill/>
          </a:ln>
        </p:spPr>
      </p:pic>
    </p:spTree>
  </p:cSld>
  <p:transition spd="med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503280" y="336600"/>
            <a:ext cx="90615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imes New Roman"/>
                <a:ea typeface="Arial Unicode MS"/>
              </a:rPr>
              <a:t>Our KWL Char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7/28/2010)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16080" y="1265400"/>
          <a:ext cx="9299520" cy="5715000"/>
        </p:xfrm>
        <a:graphic>
          <a:graphicData uri="http://schemas.openxmlformats.org/drawingml/2006/table">
            <a:tbl>
              <a:tblPr/>
              <a:tblGrid>
                <a:gridCol w="2866680"/>
                <a:gridCol w="3016440"/>
                <a:gridCol w="3416400"/>
              </a:tblGrid>
              <a:tr h="1704960"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 </a:t>
                      </a:r>
                      <a:r>
                        <a:rPr b="0" lang="en-US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Lucida Sans Unicode"/>
                        </a:rPr>
                        <a:t>KNOW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 </a:t>
                      </a:r>
                      <a:r>
                        <a:rPr b="0" lang="en-US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Lucida Sans Unicode"/>
                        </a:rPr>
                        <a:t>WONDE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've </a:t>
                      </a:r>
                      <a:r>
                        <a:rPr b="0" lang="en-US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Lucida Sans Unicode"/>
                        </a:rPr>
                        <a:t>LEARNE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</a:tr>
              <a:tr h="401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wheel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caboose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ride 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ck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can trave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under the groun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car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indow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How does the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ngine go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o invente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o made th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ubway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at are som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hings people do 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a train?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How do trains move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b050"/>
                          </a:solidFill>
                          <a:latin typeface="Comic Sans MS"/>
                          <a:ea typeface="Lucida Sans Unicode"/>
                        </a:rPr>
                        <a:t>There are differen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b050"/>
                          </a:solidFill>
                          <a:latin typeface="Comic Sans MS"/>
                          <a:ea typeface="Lucida Sans Unicode"/>
                        </a:rPr>
                        <a:t>types of cars on trains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b050"/>
                          </a:solidFill>
                          <a:latin typeface="Comic Sans MS"/>
                          <a:ea typeface="Lucida Sans Unicode"/>
                        </a:rPr>
                        <a:t>for sleeping and eating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Trains work because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they have locomotives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and an engine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The locomotive is a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the front and it pulls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the rail car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7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pic>
        <p:nvPicPr>
          <p:cNvPr id="131" name="Picture 26" descr=""/>
          <p:cNvPicPr/>
          <p:nvPr/>
        </p:nvPicPr>
        <p:blipFill>
          <a:blip r:embed="rId1"/>
          <a:stretch/>
        </p:blipFill>
        <p:spPr>
          <a:xfrm>
            <a:off x="1459080" y="21798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"/>
          <p:cNvPicPr/>
          <p:nvPr/>
        </p:nvPicPr>
        <p:blipFill>
          <a:blip r:embed="rId2"/>
          <a:stretch/>
        </p:blipFill>
        <p:spPr>
          <a:xfrm>
            <a:off x="4278240" y="21798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8" descr=""/>
          <p:cNvPicPr/>
          <p:nvPr/>
        </p:nvPicPr>
        <p:blipFill>
          <a:blip r:embed="rId3"/>
          <a:stretch/>
        </p:blipFill>
        <p:spPr>
          <a:xfrm>
            <a:off x="7478640" y="2179800"/>
            <a:ext cx="903240" cy="6858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29">
            <a:hlinkClick r:id="rId4" action="ppaction://hlinksldjump"/>
          </p:cNvPr>
          <p:cNvSpPr/>
          <p:nvPr/>
        </p:nvSpPr>
        <p:spPr>
          <a:xfrm>
            <a:off x="8393040" y="65556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773280" y="2103480"/>
            <a:ext cx="856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/>
              </a:rPr>
              <a:t>Lesson 5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/>
              </a:rPr>
              <a:t>- </a:t>
            </a:r>
            <a:r>
              <a:rPr b="0" lang="en-US" sz="4400" spc="-1" strike="noStrike">
                <a:solidFill>
                  <a:srgbClr val="5e11a6"/>
                </a:solidFill>
                <a:latin typeface="Times New Roman"/>
                <a:ea typeface="Arial Unicode MS"/>
              </a:rPr>
              <a:t>Art: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Times New Roman"/>
                <a:ea typeface="Arial Unicode MS"/>
              </a:rPr>
              <a:t>Aim: </a:t>
            </a: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Making 3-D Trains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Hands-On Cre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2754360" y="4923000"/>
            <a:ext cx="46483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5e11a6"/>
                </a:solidFill>
                <a:latin typeface="Arial"/>
              </a:rPr>
              <a:t>Motiv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Making of Pop-Up Trains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4" name="train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503280" y="336600"/>
            <a:ext cx="90615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5e11a6"/>
                </a:solidFill>
                <a:latin typeface="Times New Roman"/>
                <a:ea typeface="Arial Unicode MS"/>
              </a:rPr>
              <a:t>Art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503280" y="1341360"/>
            <a:ext cx="90615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t">
            <a:noAutofit/>
          </a:bodyPr>
          <a:p>
            <a:pPr marL="676440" indent="-6764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1: Go back to our book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rains on the Tr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76440" indent="-6764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2: Use our bodies to make kid-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76440" indent="-6764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3: Finish our KWL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76440" indent="-67644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76440" indent="-676440" algn="ctr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e11a6"/>
                </a:solidFill>
                <a:latin typeface="Times New Roman"/>
                <a:ea typeface="Arial Unicode MS"/>
              </a:rPr>
              <a:t>Ms. Flores’ 3-D 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76440" indent="-67644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468360" y="4770360"/>
            <a:ext cx="2895480" cy="228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3516480" y="477036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3"/>
          <a:stretch/>
        </p:blipFill>
        <p:spPr>
          <a:xfrm>
            <a:off x="6564240" y="4770360"/>
            <a:ext cx="3036960" cy="2286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503280" y="336600"/>
            <a:ext cx="90615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5e11a6"/>
                </a:solidFill>
                <a:latin typeface="Times New Roman"/>
                <a:ea typeface="Arial Unicode MS"/>
              </a:rPr>
              <a:t>Our KWL Chart</a:t>
            </a:r>
            <a:r>
              <a:rPr b="0" lang="en-US" sz="4400" spc="-1" strike="noStrike">
                <a:solidFill>
                  <a:srgbClr val="0047ff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7/29/2010)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1112760"/>
          <a:ext cx="9147240" cy="5865840"/>
        </p:xfrm>
        <a:graphic>
          <a:graphicData uri="http://schemas.openxmlformats.org/drawingml/2006/table">
            <a:tbl>
              <a:tblPr/>
              <a:tblGrid>
                <a:gridCol w="2747880"/>
                <a:gridCol w="3038400"/>
                <a:gridCol w="3360960"/>
              </a:tblGrid>
              <a:tr h="1749600"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 </a:t>
                      </a:r>
                      <a:r>
                        <a:rPr b="0" lang="en-US" sz="2400" spc="-1" strike="noStrike">
                          <a:solidFill>
                            <a:srgbClr val="5e11a6"/>
                          </a:solidFill>
                          <a:latin typeface="Times New Roman"/>
                          <a:ea typeface="Lucida Sans Unicode"/>
                        </a:rPr>
                        <a:t>KNOW</a:t>
                      </a:r>
                      <a:r>
                        <a:rPr b="0" lang="en-US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 </a:t>
                      </a:r>
                      <a:r>
                        <a:rPr b="0" lang="en-US" sz="2400" spc="-1" strike="noStrike">
                          <a:solidFill>
                            <a:srgbClr val="5e11a6"/>
                          </a:solidFill>
                          <a:latin typeface="Times New Roman"/>
                          <a:ea typeface="Lucida Sans Unicode"/>
                        </a:rPr>
                        <a:t>WONDER</a:t>
                      </a:r>
                      <a:r>
                        <a:rPr b="0" lang="en-US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've </a:t>
                      </a:r>
                      <a:r>
                        <a:rPr b="0" lang="en-US" sz="2400" spc="-1" strike="noStrike">
                          <a:solidFill>
                            <a:srgbClr val="5e11a6"/>
                          </a:solidFill>
                          <a:latin typeface="Times New Roman"/>
                          <a:ea typeface="Lucida Sans Unicode"/>
                        </a:rPr>
                        <a:t>LEARNED</a:t>
                      </a:r>
                      <a:r>
                        <a:rPr b="0" lang="en-US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</a:tr>
              <a:tr h="411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wheel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caboose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ride 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ck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can trave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under the groun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car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indow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How does the engine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go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o invente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o made th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ubway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at are som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hings people do 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a train?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How do trains move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b05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b050"/>
                          </a:solidFill>
                          <a:latin typeface="Comic Sans MS"/>
                          <a:ea typeface="Lucida Sans Unicode"/>
                        </a:rPr>
                        <a:t>There are differen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b050"/>
                          </a:solidFill>
                          <a:latin typeface="Comic Sans MS"/>
                          <a:ea typeface="Lucida Sans Unicode"/>
                        </a:rPr>
                        <a:t>types of cars on trains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b050"/>
                          </a:solidFill>
                          <a:latin typeface="Comic Sans MS"/>
                          <a:ea typeface="Lucida Sans Unicode"/>
                        </a:rPr>
                        <a:t>for sleeping and eating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Trains work because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they have locomotives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and an engine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The locomotive is a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the front and it pulls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the rail car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280099"/>
                          </a:solidFill>
                          <a:latin typeface="Comic Sans MS"/>
                          <a:ea typeface="Lucida Sans Unicode"/>
                        </a:rPr>
                        <a:t>Different train cars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280099"/>
                          </a:solidFill>
                          <a:latin typeface="Comic Sans MS"/>
                          <a:ea typeface="Lucida Sans Unicode"/>
                        </a:rPr>
                        <a:t>hold different material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pic>
        <p:nvPicPr>
          <p:cNvPr id="144" name="Picture 26" descr=""/>
          <p:cNvPicPr/>
          <p:nvPr/>
        </p:nvPicPr>
        <p:blipFill>
          <a:blip r:embed="rId1"/>
          <a:stretch/>
        </p:blipFill>
        <p:spPr>
          <a:xfrm>
            <a:off x="1459080" y="202716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7" descr=""/>
          <p:cNvPicPr/>
          <p:nvPr/>
        </p:nvPicPr>
        <p:blipFill>
          <a:blip r:embed="rId2"/>
          <a:stretch/>
        </p:blipFill>
        <p:spPr>
          <a:xfrm>
            <a:off x="4278240" y="21034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8" descr=""/>
          <p:cNvPicPr/>
          <p:nvPr/>
        </p:nvPicPr>
        <p:blipFill>
          <a:blip r:embed="rId3"/>
          <a:stretch/>
        </p:blipFill>
        <p:spPr>
          <a:xfrm>
            <a:off x="7478640" y="2027160"/>
            <a:ext cx="90324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29">
            <a:hlinkClick r:id="rId4" action="ppaction://hlinksldjump"/>
          </p:cNvPr>
          <p:cNvSpPr/>
          <p:nvPr/>
        </p:nvSpPr>
        <p:spPr>
          <a:xfrm>
            <a:off x="8393040" y="579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55e00"/>
                </a:solidFill>
                <a:latin typeface="Times New Roman"/>
              </a:rPr>
              <a:t>Resources</a:t>
            </a:r>
            <a:br>
              <a:rPr sz="4400"/>
            </a:br>
            <a:r>
              <a:rPr b="0" lang="en-US" sz="3600" spc="-1" strike="noStrike">
                <a:solidFill>
                  <a:srgbClr val="355e00"/>
                </a:solidFill>
                <a:latin typeface="Times New Roman"/>
              </a:rPr>
              <a:t>(if you missed something...)</a:t>
            </a: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116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lass B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ass Wi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in G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4760" y="1768320"/>
            <a:ext cx="44211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 Teachers/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y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50328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224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Table of Conte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058760" y="1828800"/>
            <a:ext cx="83138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8240" bIns="0" anchor="t">
            <a:noAutofit/>
          </a:bodyPr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 action="ppaction://hlinksldjump"/>
              </a:rPr>
              <a:t>Lesson 1</a:t>
            </a:r>
            <a:r>
              <a:rPr b="0" lang="en-US" sz="3200" spc="-1" strike="noStrike">
                <a:solidFill>
                  <a:srgbClr val="b80047"/>
                </a:solidFill>
                <a:latin typeface="Times New Roman"/>
                <a:ea typeface="Arial Unicode MS"/>
              </a:rPr>
              <a:t>; Litera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 What are some of the different types of trai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 action="ppaction://hlinksldjump"/>
              </a:rPr>
              <a:t>Lesson 2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; Social Stud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 How do trains affect our li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3" action="ppaction://hlinksldjump"/>
              </a:rPr>
              <a:t>Lesson 3</a:t>
            </a:r>
            <a:r>
              <a:rPr b="0" lang="en-US" sz="3200" spc="-1" strike="noStrike">
                <a:solidFill>
                  <a:srgbClr val="6b2394"/>
                </a:solidFill>
                <a:latin typeface="Times New Roman"/>
                <a:ea typeface="Arial Unicode MS"/>
              </a:rPr>
              <a:t>; Mathemat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 What are some of the shapes that make trai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4" action="ppaction://hlinksldjump"/>
              </a:rPr>
              <a:t>Lesson 4</a:t>
            </a:r>
            <a:r>
              <a:rPr b="0" lang="en-US" sz="3200" spc="-1" strike="noStrike">
                <a:solidFill>
                  <a:srgbClr val="ff950e"/>
                </a:solidFill>
                <a:latin typeface="Times New Roman"/>
                <a:ea typeface="Arial Unicode MS"/>
              </a:rPr>
              <a:t>; Sci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 How do trains mo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5" action="ppaction://hlinksldjump"/>
              </a:rPr>
              <a:t>Lesson 5</a:t>
            </a:r>
            <a:r>
              <a:rPr b="0" lang="en-US" sz="3200" spc="-1" strike="noStrike">
                <a:solidFill>
                  <a:srgbClr val="5e11a6"/>
                </a:solidFill>
                <a:latin typeface="Times New Roman"/>
                <a:ea typeface="Arial Unicode MS"/>
              </a:rPr>
              <a:t>; 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 Making 3D 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39.9600005149841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14400" y="2057400"/>
            <a:ext cx="8674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316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/>
              </a:rPr>
              <a:t>Lesson 1- </a:t>
            </a:r>
            <a:r>
              <a:rPr b="0" lang="en-US" sz="4400" spc="-1" strike="noStrike">
                <a:solidFill>
                  <a:srgbClr val="b80047"/>
                </a:solidFill>
                <a:latin typeface="Times New Roman"/>
                <a:ea typeface="Arial Unicode MS"/>
              </a:rPr>
              <a:t>Literacy</a:t>
            </a: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Aim: What are some of the different types of Trains?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Read-Aloud and KWL 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3429000" y="5318280"/>
            <a:ext cx="2824200" cy="1539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6434280" y="5257800"/>
            <a:ext cx="293832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4"/>
          <a:stretch/>
        </p:blipFill>
        <p:spPr>
          <a:xfrm>
            <a:off x="457200" y="5257800"/>
            <a:ext cx="274320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5"/>
          <a:stretch/>
        </p:blipFill>
        <p:spPr>
          <a:xfrm>
            <a:off x="7315200" y="685800"/>
            <a:ext cx="2286000" cy="149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6"/>
          <a:stretch/>
        </p:blipFill>
        <p:spPr>
          <a:xfrm>
            <a:off x="457200" y="685800"/>
            <a:ext cx="25146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7" name="trai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0328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316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80047"/>
                </a:solidFill>
                <a:latin typeface="Times New Roman"/>
                <a:ea typeface="Arial Unicode MS"/>
              </a:rPr>
              <a:t>Literacy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457200" y="1371600"/>
            <a:ext cx="9070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2057400" cy="2095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3886200" y="457200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457200" y="1371600"/>
            <a:ext cx="90709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t">
            <a:noAutofit/>
          </a:bodyPr>
          <a:p>
            <a:pPr marL="422280" indent="-317520">
              <a:lnSpc>
                <a:spcPct val="90000"/>
              </a:lnSpc>
              <a:spcAft>
                <a:spcPts val="1426"/>
              </a:spcAft>
              <a:buClr>
                <a:srgbClr val="000080"/>
              </a:buClr>
              <a:buFont typeface="Wingdings" charset="2"/>
              <a:buChar char="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566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1: Rea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reight Tra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by Donald Cr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Aft>
                <a:spcPts val="1426"/>
              </a:spcAft>
              <a:buClr>
                <a:srgbClr val="000080"/>
              </a:buClr>
              <a:buFont typeface="Wingdings" charset="2"/>
              <a:buChar char="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566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2: Start ou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W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Chart on 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6858000" y="4572000"/>
            <a:ext cx="2085840" cy="20574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1828800" y="2971800"/>
            <a:ext cx="2971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24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57200" y="3429000"/>
            <a:ext cx="25146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b80047"/>
                </a:solidFill>
                <a:latin typeface="Times New Roman"/>
              </a:rPr>
              <a:t>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429000" y="3548160"/>
            <a:ext cx="27432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b80047"/>
                </a:solidFill>
                <a:latin typeface="Times New Roman"/>
              </a:rPr>
              <a:t>WO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6629400" y="3122640"/>
            <a:ext cx="29718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24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you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b80047"/>
                </a:solidFill>
                <a:latin typeface="Times New Roman"/>
              </a:rPr>
              <a:t>LEA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rai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503280" y="336600"/>
            <a:ext cx="9070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316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80047"/>
                </a:solidFill>
                <a:latin typeface="Times New Roman"/>
                <a:ea typeface="Arial Unicode MS"/>
              </a:rPr>
              <a:t>Our KWL Char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7/25/20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265400"/>
          <a:ext cx="9148680" cy="6019560"/>
        </p:xfrm>
        <a:graphic>
          <a:graphicData uri="http://schemas.openxmlformats.org/drawingml/2006/table">
            <a:tbl>
              <a:tblPr/>
              <a:tblGrid>
                <a:gridCol w="2604960"/>
                <a:gridCol w="3278160"/>
                <a:gridCol w="3265560"/>
              </a:tblGrid>
              <a:tr h="2199960"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 </a:t>
                      </a:r>
                      <a:r>
                        <a:rPr b="0" lang="en-US" sz="2400" spc="-1" strike="noStrike">
                          <a:solidFill>
                            <a:srgbClr val="b80047"/>
                          </a:solidFill>
                          <a:latin typeface="Times New Roman"/>
                          <a:ea typeface="Lucida Sans Unicode"/>
                        </a:rPr>
                        <a:t>KNOW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 </a:t>
                      </a:r>
                      <a:r>
                        <a:rPr b="0" lang="en-US" sz="2400" spc="-1" strike="noStrike">
                          <a:solidFill>
                            <a:srgbClr val="b80047"/>
                          </a:solidFill>
                          <a:latin typeface="Times New Roman"/>
                          <a:ea typeface="Lucida Sans Unicode"/>
                        </a:rPr>
                        <a:t>WOND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've </a:t>
                      </a:r>
                      <a:r>
                        <a:rPr b="0" lang="en-US" sz="2400" spc="-1" strike="noStrike">
                          <a:solidFill>
                            <a:srgbClr val="b80047"/>
                          </a:solidFill>
                          <a:latin typeface="Times New Roman"/>
                          <a:ea typeface="Lucida Sans Unicode"/>
                        </a:rPr>
                        <a:t>LEARNE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</a:tr>
              <a:tr h="381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wheel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caboos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ride 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ck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can tra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under the groun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car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indow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How does the engine go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o inven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o made th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ubway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at are so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hings people do 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a train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How do trains mov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26" descr=""/>
          <p:cNvPicPr/>
          <p:nvPr/>
        </p:nvPicPr>
        <p:blipFill>
          <a:blip r:embed="rId1"/>
          <a:stretch/>
        </p:blipFill>
        <p:spPr>
          <a:xfrm>
            <a:off x="1154160" y="2103480"/>
            <a:ext cx="914400" cy="768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7" descr=""/>
          <p:cNvPicPr/>
          <p:nvPr/>
        </p:nvPicPr>
        <p:blipFill>
          <a:blip r:embed="rId2"/>
          <a:stretch/>
        </p:blipFill>
        <p:spPr>
          <a:xfrm>
            <a:off x="4125960" y="2027160"/>
            <a:ext cx="914400" cy="822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8" descr=""/>
          <p:cNvPicPr/>
          <p:nvPr/>
        </p:nvPicPr>
        <p:blipFill>
          <a:blip r:embed="rId3"/>
          <a:stretch/>
        </p:blipFill>
        <p:spPr>
          <a:xfrm>
            <a:off x="7326360" y="2103480"/>
            <a:ext cx="941400" cy="8413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29">
            <a:hlinkClick r:id="rId4" action="ppaction://hlinksldjump"/>
          </p:cNvPr>
          <p:cNvSpPr/>
          <p:nvPr/>
        </p:nvSpPr>
        <p:spPr>
          <a:xfrm>
            <a:off x="8697960" y="503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68360" y="1646280"/>
            <a:ext cx="907092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316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/>
              </a:rPr>
              <a:t>Lesson 2- 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Social Studies: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Times New Roman"/>
                <a:ea typeface="Arial Unicode MS"/>
              </a:rPr>
              <a:t>Aim: </a:t>
            </a: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How do trains affect our lives?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Read-Aloud and Dramatic Pl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2068560" y="3855960"/>
            <a:ext cx="2286000" cy="2819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420880" y="1767960"/>
            <a:ext cx="41418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Backyard Trains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tra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503280" y="336600"/>
            <a:ext cx="90694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544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Social Studies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7200" y="1143000"/>
            <a:ext cx="911556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t">
            <a:noAutofit/>
          </a:bodyPr>
          <a:p>
            <a:pPr marL="676440" indent="-6764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1: Read some pages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rains on the Tr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by Bobbie Kalman, and talk about trains in our l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76440" indent="-6764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2: Role play in stations of how trains affect our l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7072200" y="3583080"/>
            <a:ext cx="2459160" cy="3492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2743200" cy="349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593640" y="4051440"/>
            <a:ext cx="3292560" cy="28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503280" y="336600"/>
            <a:ext cx="90709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316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Our KWL Chart</a:t>
            </a:r>
            <a:r>
              <a:rPr b="0" lang="en-US" sz="4400" spc="-1" strike="noStrike">
                <a:solidFill>
                  <a:srgbClr val="b80047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7/26/20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1112760"/>
          <a:ext cx="9147240" cy="6235920"/>
        </p:xfrm>
        <a:graphic>
          <a:graphicData uri="http://schemas.openxmlformats.org/drawingml/2006/table">
            <a:tbl>
              <a:tblPr/>
              <a:tblGrid>
                <a:gridCol w="2747880"/>
                <a:gridCol w="3038400"/>
                <a:gridCol w="3360960"/>
              </a:tblGrid>
              <a:tr h="1704960"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 </a:t>
                      </a: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Times New Roman"/>
                          <a:ea typeface="Lucida Sans Unicode"/>
                        </a:rPr>
                        <a:t>KNOW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 </a:t>
                      </a: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Times New Roman"/>
                          <a:ea typeface="Lucida Sans Unicode"/>
                        </a:rPr>
                        <a:t>WOND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've </a:t>
                      </a: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Times New Roman"/>
                          <a:ea typeface="Lucida Sans Unicode"/>
                        </a:rPr>
                        <a:t>LEARNE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</a:tr>
              <a:tr h="455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eel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caboose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ride 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ck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can trave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under the groun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car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indow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How does the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ngine go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o invente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o made th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ubway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at are som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hings people do 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a train?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How do trains move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b050"/>
                          </a:solidFill>
                          <a:latin typeface="Comic Sans MS"/>
                          <a:ea typeface="Lucida Sans Unicode"/>
                        </a:rPr>
                        <a:t>There are differen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b050"/>
                          </a:solidFill>
                          <a:latin typeface="Comic Sans MS"/>
                          <a:ea typeface="Lucida Sans Unicode"/>
                        </a:rPr>
                        <a:t>types of cars on trains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b050"/>
                          </a:solidFill>
                          <a:latin typeface="Comic Sans MS"/>
                          <a:ea typeface="Lucida Sans Unicode"/>
                        </a:rPr>
                        <a:t>for sleeping and eating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7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7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7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pic>
        <p:nvPicPr>
          <p:cNvPr id="91" name="Picture 26" descr=""/>
          <p:cNvPicPr/>
          <p:nvPr/>
        </p:nvPicPr>
        <p:blipFill>
          <a:blip r:embed="rId1"/>
          <a:stretch/>
        </p:blipFill>
        <p:spPr>
          <a:xfrm>
            <a:off x="1459080" y="18748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7" descr=""/>
          <p:cNvPicPr/>
          <p:nvPr/>
        </p:nvPicPr>
        <p:blipFill>
          <a:blip r:embed="rId2"/>
          <a:stretch/>
        </p:blipFill>
        <p:spPr>
          <a:xfrm>
            <a:off x="4278240" y="19512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8" descr=""/>
          <p:cNvPicPr/>
          <p:nvPr/>
        </p:nvPicPr>
        <p:blipFill>
          <a:blip r:embed="rId3"/>
          <a:stretch/>
        </p:blipFill>
        <p:spPr>
          <a:xfrm>
            <a:off x="7478640" y="1951200"/>
            <a:ext cx="903240" cy="6858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29">
            <a:hlinkClick r:id="rId4" action="ppaction://hlinksldjump"/>
          </p:cNvPr>
          <p:cNvSpPr/>
          <p:nvPr/>
        </p:nvSpPr>
        <p:spPr>
          <a:xfrm>
            <a:off x="8774280" y="503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531720" y="2211480"/>
            <a:ext cx="906948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544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/>
              </a:rPr>
              <a:t>Lesson 3- </a:t>
            </a:r>
            <a:r>
              <a:rPr b="0" lang="en-US" sz="4400" spc="-1" strike="noStrike">
                <a:solidFill>
                  <a:srgbClr val="6b2394"/>
                </a:solidFill>
                <a:latin typeface="Times New Roman"/>
                <a:ea typeface="Arial Unicode MS"/>
              </a:rPr>
              <a:t>Mathematics: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Times New Roman"/>
                <a:ea typeface="Arial Unicode MS"/>
              </a:rPr>
              <a:t>Aim: </a:t>
            </a: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What are some of the different shapes that make trains?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Train Collages with Different Sha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2" name="trai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3:20:26Z</dcterms:created>
  <dc:creator>atikur abdul</dc:creator>
  <dc:description/>
  <dc:language>en-US</dc:language>
  <cp:lastModifiedBy>Brooklyn College</cp:lastModifiedBy>
  <dcterms:modified xsi:type="dcterms:W3CDTF">2010-08-03T21:39:53Z</dcterms:modified>
  <cp:revision>57</cp:revision>
  <dc:subject/>
  <dc:title>A Thematic Unit  Presented by Candice Flores</dc:title>
</cp:coreProperties>
</file>